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2E07-1737-4736-9614-9D52BA69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ACDF-957D-4420-A2CA-DD1CBD5D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FD89-C665-4D11-A74B-A925524B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54B5-5C8A-4ECB-AB06-EF32A46D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F6E1-830E-42CD-A611-32103B28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361-B4CF-45A5-92C3-BAC422B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23D8-9CE6-4353-88BF-E2352B4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BE4-5D00-46F9-872D-39FF65DD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EB6B-BC49-42DA-99F9-F89C980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B677-E88B-441F-815A-87FDA606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9C2F-34F4-4B0D-A0FC-8589932A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AE33-B3F0-4E90-BB2D-690F957F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12CD-BF39-49C4-8D60-01B5F94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0BD5-D6FE-4323-9B33-9A0831A8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361-FAFA-48B7-A8BB-7D63B191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2F8-F0C7-49E5-BC4D-0CF3664F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F1DE-8A0D-42E7-8980-692E66A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B7D9-90CE-400F-8EC4-476D8742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E84B-25AD-49AB-BD00-FF4856E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0184-A02F-422B-8B49-9A19185F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40ED-57A1-4A13-BE04-F2AF3F18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3A70-22AD-45B5-A6AB-248210D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BB42-5563-4931-A4B3-414EE7B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B4DC-DE54-43ED-90D0-28D8D41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D356-7407-41C0-B98C-FDE1238AF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51D-9EAB-4C62-9070-0FF80D2FE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40: The Stalemated Seventi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68-1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1972_Electoral_Map"/>
          <p:cNvPicPr/>
          <p:nvPr/>
        </p:nvPicPr>
        <p:blipFill>
          <a:blip r:embed="rId1"/>
          <a:stretch/>
        </p:blipFill>
        <p:spPr>
          <a:xfrm>
            <a:off x="228600" y="762120"/>
            <a:ext cx="874728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tergat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ne 17, 1972- burglary occurred at Democratic headquarters in Washington D.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men arrested, had electronic bugging equi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ed for Republican Committee for Re-election of the President (CREE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ised millions of dollars using unlawful &amp; unethical me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ty campaign- faked documents, espion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5" descr="watergate21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terg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of Nixon’s top administration officials forced to r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minal obstruction of justice through cover-ups or payments of hush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BI connected money found on burglars to a slush fund used by CREE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p of iceberg for corruption under Nix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my lis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rglar stole psychiatric files of Daniel Ellsber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ANd9GcS25-QrlttzSGX1LMxvX78Zy116ogsYt5nE4BuuDBd39MPWFq6L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tergat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ate Watergate Committee- conducted series of televised heari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Dean testifies as to involvement of top officials in White House in cover-up of Watergate (including president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ANd9GcRYqQ1XEoCkryCXeVOPrC8SsSlYdFe_JRSfpPTJq4d4jJanPJZNgQ"/>
          <p:cNvPicPr/>
          <p:nvPr/>
        </p:nvPicPr>
        <p:blipFill>
          <a:blip r:embed="rId1"/>
          <a:stretch/>
        </p:blipFill>
        <p:spPr>
          <a:xfrm>
            <a:off x="3505320" y="3948120"/>
            <a:ext cx="4371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e Controvers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y 1973- former presidential aide reports presence of bugging equipment in White Ho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talled under Nixon’s autho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versations recorded w/o notifying other pa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had denied prior  knowledge of Watergate burglary &amp; involvement in cover-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used to hand over tapes (confidentiality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e Controvers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P Agnew forced to resign in Oct. 1973 for taking bribes from Maryland contracto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mendment invoked to replace Agnew w/ Gerald Ford (Michigan congressman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turday Night Massacr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bpoena issued for relevant tapes &amp; other documents from White Hou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xon orders “special prosecutor” Archibald Cox to be fi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orney General &amp; Deputy Attorney General r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oct21_73"/>
          <p:cNvPicPr/>
          <p:nvPr/>
        </p:nvPicPr>
        <p:blipFill>
          <a:blip r:embed="rId1"/>
          <a:stretch/>
        </p:blipFill>
        <p:spPr>
          <a:xfrm>
            <a:off x="7719840" y="4800600"/>
            <a:ext cx="1424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making of a Presid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ending impeach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agrees to turn over “relevant” portions of the ta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 of material demanded, Nixon refu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reme Court rules that Nixon cannot withhold portions of tapes relevant to criminal ac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xon reluctantly compl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abused powers of presid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office bugs"/>
          <p:cNvPicPr/>
          <p:nvPr/>
        </p:nvPicPr>
        <p:blipFill>
          <a:blip r:embed="rId1"/>
          <a:stretch/>
        </p:blipFill>
        <p:spPr>
          <a:xfrm>
            <a:off x="304920" y="914400"/>
            <a:ext cx="8607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making of a Presid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 of Nixon giving orders 6 days after Watergate break-in to use CIA to hold back inquiry by FB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victs him of being active part of cover-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told Americans he knew nothing of Watergate cover-up until 9 mos. Af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backla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Resig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gust 8, 197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s resignation on T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made it clear that Nixon would be impea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st option is to resign w/ hon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polls_OoGMYnQcWn_i_am_not_a_crook_1_2351_693_poll_xlarge"/>
          <p:cNvPicPr/>
          <p:nvPr/>
        </p:nvPicPr>
        <p:blipFill>
          <a:blip r:embed="rId1"/>
          <a:stretch/>
        </p:blipFill>
        <p:spPr>
          <a:xfrm>
            <a:off x="0" y="4610160"/>
            <a:ext cx="3333600" cy="2247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NixonResignsNYT488"/>
          <p:cNvPicPr/>
          <p:nvPr/>
        </p:nvPicPr>
        <p:blipFill>
          <a:blip r:embed="rId2"/>
          <a:stretch/>
        </p:blipFill>
        <p:spPr>
          <a:xfrm>
            <a:off x="3352680" y="4389480"/>
            <a:ext cx="3124440" cy="2468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ANd9GcQzxnADA-MgU4BN-SZbskz5uJLAAQ6a4b7x3Z9g9TaMbIhHZve8"/>
          <p:cNvPicPr/>
          <p:nvPr/>
        </p:nvPicPr>
        <p:blipFill>
          <a:blip r:embed="rId3"/>
          <a:stretch/>
        </p:blipFill>
        <p:spPr>
          <a:xfrm>
            <a:off x="6477120" y="4849920"/>
            <a:ext cx="26668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gnatio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ump in produc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presence of women &amp; teenagers in work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tnam War drained tax dollars from needed areas (education)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f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BJ had insisted on fighting in Vietnam &amp; funding Great Society at home w/o raising tax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s r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ANd9GcTvNpeoYMksZsSrPKpQqE7gHDBEXWRch2ZIMs8Rrk_w0kb-NoHB"/>
          <p:cNvPicPr/>
          <p:nvPr/>
        </p:nvPicPr>
        <p:blipFill>
          <a:blip r:embed="rId1"/>
          <a:stretch/>
        </p:blipFill>
        <p:spPr>
          <a:xfrm>
            <a:off x="155520" y="46080"/>
            <a:ext cx="27813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5" descr="PWU7ques4-5"/>
          <p:cNvPicPr/>
          <p:nvPr/>
        </p:nvPicPr>
        <p:blipFill>
          <a:blip r:embed="rId1"/>
          <a:stretch/>
        </p:blipFill>
        <p:spPr>
          <a:xfrm>
            <a:off x="685800" y="1905120"/>
            <a:ext cx="780084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ab Oil Embar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ober 197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ab nations clamped oil embargo on oil for US &amp; other nations supporting Isra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s rationed g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 crisi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C raises price of oil after embargo is lif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gas-lines-during-the-1973-oil-embargo"/>
          <p:cNvPicPr/>
          <p:nvPr/>
        </p:nvPicPr>
        <p:blipFill>
          <a:blip r:embed="rId1"/>
          <a:stretch/>
        </p:blipFill>
        <p:spPr>
          <a:xfrm>
            <a:off x="2438280" y="4954680"/>
            <a:ext cx="2124360" cy="1903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oil-crisis_qjpreviewth"/>
          <p:cNvPicPr/>
          <p:nvPr/>
        </p:nvPicPr>
        <p:blipFill>
          <a:blip r:embed="rId2"/>
          <a:stretch/>
        </p:blipFill>
        <p:spPr>
          <a:xfrm>
            <a:off x="4724280" y="4876920"/>
            <a:ext cx="1800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rst Unelected Presid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rald Ford- first man to be made president solely by vote of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d grants Nixon a pardon for any crimes he may have committed as presid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ocrats outrag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ed to end Nixon’s private ago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elsinki Accords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mprove relations between USSR &amp; W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itimized USSR- dictated boundaries of Poland &amp; other E. European countr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ected certain basic human righ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5" descr="220px-Gerald_Ford"/>
          <p:cNvPicPr/>
          <p:nvPr/>
        </p:nvPicPr>
        <p:blipFill>
          <a:blip r:embed="rId1"/>
          <a:stretch/>
        </p:blipFill>
        <p:spPr>
          <a:xfrm>
            <a:off x="228600" y="0"/>
            <a:ext cx="1089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eminist Victories &amp; Defea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itle IX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hibited sex discrimination in any federally assisted educational progra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ed opportunities for girls athletics at schools &amp; colleg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qual Rights Amendmen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ERA) equal rights under law should not be denied on account of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adopted (198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hyllis Schlafy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ed campaign to stop E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2- Nixon strikes down proposal to set up nationwide public day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5" descr="schlafly2"/>
          <p:cNvPicPr/>
          <p:nvPr/>
        </p:nvPicPr>
        <p:blipFill>
          <a:blip r:embed="rId1"/>
          <a:stretch/>
        </p:blipFill>
        <p:spPr>
          <a:xfrm>
            <a:off x="7139160" y="4191120"/>
            <a:ext cx="200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ce Issues in the 197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ce remained explosive iss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illiken v. Bradley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segregation plans could not require students to move across school-district l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e jure segreg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mposed by la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e facto segreg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resulting from economic or social condi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gregation allowed if not considered explicit policy of school distri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lems w/ affirmative ac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kke Cas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eference in admissions could not be given to members of any group on basis of 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7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: Gerald F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: Jimmy Car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orgia Peanut farm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n against memory of Nixon &amp; Waterg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’ll Never Lie to You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ainst big govern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wins elec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ic majorities in House &amp; Sen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proposed tax refor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5" descr="220px-JimmyCarterPortrait2"/>
          <p:cNvPicPr/>
          <p:nvPr/>
        </p:nvPicPr>
        <p:blipFill>
          <a:blip r:embed="rId1"/>
          <a:stretch/>
        </p:blipFill>
        <p:spPr>
          <a:xfrm>
            <a:off x="6491160" y="1447920"/>
            <a:ext cx="26528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5" descr="800px-ElectoralCollege1976-Large_Corrected"/>
          <p:cNvPicPr/>
          <p:nvPr/>
        </p:nvPicPr>
        <p:blipFill>
          <a:blip r:embed="rId1"/>
          <a:stretch/>
        </p:blipFill>
        <p:spPr>
          <a:xfrm>
            <a:off x="152280" y="457200"/>
            <a:ext cx="88362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mp David Acco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immy Carter- humanitarian conce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mp David Accords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ptember 197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ident Anwar Sadat of Egypt &amp; Prime Minister Manachem Beg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persuaded them to sign an accord that held considerable promise of pe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rael to withdraw from territory conquered in 1967 w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pt to respect Israel’s bor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5" descr="78620-004-AE3D4BEA"/>
          <p:cNvPicPr/>
          <p:nvPr/>
        </p:nvPicPr>
        <p:blipFill>
          <a:blip r:embed="rId1"/>
          <a:stretch/>
        </p:blipFill>
        <p:spPr>
          <a:xfrm>
            <a:off x="304920" y="0"/>
            <a:ext cx="83026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and Energy Wo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s rising, inflation r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il prices also steadily ri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e rate”- rate of interest that banks charged their best customers- rose to 2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ence on foreign o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called for legislation to improve energy conserv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eme Cour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ef Justice Earl Warren had been appointed in 195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rren Court- decisions that affected sexual freedom, criminal rights &amp; civil righ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ep concern for the individ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xon lashed out at the permissiveness &amp; judicial activ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File:Earl Warren.jpg"/>
          <p:cNvPicPr/>
          <p:nvPr/>
        </p:nvPicPr>
        <p:blipFill>
          <a:blip r:embed="rId1"/>
          <a:stretch/>
        </p:blipFill>
        <p:spPr>
          <a:xfrm>
            <a:off x="3830760" y="4648320"/>
            <a:ext cx="1771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r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nuary 1979- Mohammed Reza Pahlevi’s repressive regime is overthrow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lim fundamentalists resented shah’s campaign to westernize Ir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=Great Sat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C seizes opportunity to raise oil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read to Iran’s oil fiel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il cri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eign Aff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viet leader= Brezhn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meets w/ Brezhnev to sign SALT II- limiting lethal strategic weapons in USSR &amp; U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ratified- conservative critics, suspicious of USS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ran Hostage Cri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Nov. 4, 197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ti-American Muslim militants stormed US embassy in Tehran, took all occupants host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ed that US send shah back to Iran (in US for medical treatmen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ranian government refuses to intervene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yatollah Khomeini accused US of designing an attack on Mec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eign Aff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SR invaded Afghanistan, 197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ter places embargo on goods to USS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d boycott of 1980 Moscow Summer Olympic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ims that US will use any means necessary to protect Persian Gulf against Soviet inva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eign Aff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ran Hostage Crisis contin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ter eventually orders daring rescue m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ined commando team faced equipment failu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sion had to be scrapp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ring withdrawal, 2 aircrafts collided &amp; killed 8 of would-be rescu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ilure anguishing for America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lemate w/ Iran continues throughout Carter’s presid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eme Cour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riswold v. Connecticu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truck down state law that prohibited use of contraceptives (196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ideon v. Wainwrigh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ll defendants in criminal cases entitled to legal counsel (196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irand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right of accused to remain silent &amp; enjoy other protections when accused of a crime (196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ew York Times v. Sullivan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figures could sue for libel only if they could prove malice had motivated their defa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eme Cour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gel v. Vitale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oted against required prayers &amp; Bible readings in public sch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therners were angered by Supreme Court support of blacks in civil rights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sought to appoint justices who would strictly interpret constit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conservative Nixon appoint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oe v. W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5" descr="c2cb4_120628054349-president-nixon-vertical-gallery"/>
          <p:cNvPicPr/>
          <p:nvPr/>
        </p:nvPicPr>
        <p:blipFill>
          <a:blip r:embed="rId1"/>
          <a:stretch/>
        </p:blipFill>
        <p:spPr>
          <a:xfrm>
            <a:off x="7201080" y="42670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on Home Fro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xon surprisingly presided over expansion of welfare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od Stamps, Medicaid, Social Security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ansion of Great Society helped reduce nation’s poverty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hiladelphia Plan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quired construction trade unions to establish goals for hiring black appren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ded to all federal contra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quired thousands of employers to meet hiring quot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on Home Fro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firmative Action- transformed to give privileges to certain groups, as opposed to individua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sure protection against charges of discrimination is to hire minority work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itics: “reverse discrimin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Protection Agency created,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lent Spring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ritten by Rachel Car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osed poisonous effects of pesticid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d to environmentalist mov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on the Home Fro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sed 90 day wage &amp; price freeze, 197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k US off the gold stand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alued the dol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ded “Bretton Woods” system of international currency stabilization that had functioned since WWI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used “southern strategy” to develop a majority in 19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7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etnam was biggest iss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ixon had promised to end war &amp; win pea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ghting had escalat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ocrat: George McGover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mised to pull troops out of Vietnam w/in 90 day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P candidate Thomas Eagleton revealed he had undergone psychiatric care- doomed McGovern’s candidac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publican: Richard Nix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phasized he had decreased tro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issinger announced that “peace is at hand” in Vietnam 12 days before election &amp; agreement would be made in a few day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xon wins election by a landsl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 states but Massachusett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0:41:12Z</dcterms:created>
  <dc:creator>emily.johnson</dc:creator>
  <dc:description/>
  <dc:language>en-US</dc:language>
  <cp:lastModifiedBy>emily.johnson</cp:lastModifiedBy>
  <cp:lastPrinted>2013-04-19T01:18:08Z</cp:lastPrinted>
  <dcterms:modified xsi:type="dcterms:W3CDTF">2013-04-19T13:05:23Z</dcterms:modified>
  <cp:revision>9</cp:revision>
  <dc:subject/>
  <dc:title>Chapter 40: The Stalemated Seventies</dc:title>
</cp:coreProperties>
</file>